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94CB-C2CB-456F-BAF6-DE844BDF9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FD71-F5F1-40AE-B756-DC1FFC338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61C4-FD00-4948-87A9-4D1D4583F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5393-B2AA-494D-B6B6-A223CE64A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FAD4-D1B0-40F4-9821-5E24454C8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D6C1-12B6-4AF0-B99F-F1C78BE71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1DD4-BA04-4499-9BB6-C2F42C437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21A8-9E3D-4AA1-9FFE-373FF372D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9F22-D2EB-40FA-82A8-BA46183B8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78E0-8897-4168-B235-7AF1815B7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E8B6-69EE-4216-AA85-194047D49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C6FD-F198-4D5E-8C2D-57F4AB5D8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1226-BA35-48FB-A650-C02665B87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BE93-8A48-45CF-91F7-B35AC7A0A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38E8-A1C3-4226-92E8-F6E26F89C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0944-2560-4058-8462-19F6D5071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2306-8030-4B5B-ACB2-D858BA5EE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the term Minds-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A7A6-CF56-436C-BD75-EB1DDDBFE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7A30-8F31-4CC8-845F-CDD2A24FEF3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Mathematical Processes are the actions of doing mathematics. These are presented in the Revised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Mathematics Curriculum of 2005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 &lt;Name them out loud&gt; These processes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form the primary gear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of the metaph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interconnected processes of Representing, Reflecting, Reasoning and Proving, Connecting and Selecting Tools and Computational Strategies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make up disk of the gear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Communicating and Problem Solving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are closely linked to each of the other 5 proces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t is essential that our students are capable of communicating their mathematics therefore it is essential that they are given opportunities to practice.  Communicating is integral in each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of the other processe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oblem Solving is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the driver of all mathematics.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The solution of rich mathematics questions requires the application of skills and understanding of concepts and incorporates some or all of the mathematical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&lt;&lt;Click to next slide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ADAC-C741-4F85-91C6-C1A8372BF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B5B7-DE6A-4401-980C-240351E9E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AC66-1682-4B88-A227-223BB3516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961B-5FA4-4FC9-8DA9-F549BF36C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976F-34ED-4E6F-8BAA-5F2324C17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2E89-20AF-4150-86B3-29DEE6A06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29F7-8C5F-4D2A-9801-B74CBA43B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DC53-F9D3-4672-B050-BF51971C8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C14A-0900-4A9A-A4F1-8278BFC91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051F-C224-4DE5-87C9-FA2106749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DC84-EA98-402F-AE99-D1B4C4A8E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25DA-0668-40CB-B110-F551F91CF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7A35-FFD0-42EF-A46A-4D7252F14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ED2F-2B80-46F8-ABB4-5C5CE9E2F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3342-E09E-4890-9C0A-2C440EB65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1701-A268-4C84-B44A-AD5736B15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1EA5-3651-499D-AB73-FAD352319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68E7-0B84-4B9E-A9E1-EB0CD5BE2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9D19-E22B-4C7D-B5E6-CA819FDB1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BD03-ECF4-4EA9-A81B-768C07A3B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91F7-E151-4F79-A700-0E27C0374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D444-B9C0-46F0-AE5E-A3DE6A869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7518-BD3B-46F1-82AD-5AB363D65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A4B0-4F65-4FDE-AB1B-AFA2E333D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A29F-80B5-4C83-B579-A4BEA7F47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F7F6-0615-4EBD-B90C-023BCE916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50D3-E634-4FB9-AD97-A675CDE23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56B4-D3B7-4E16-A638-6BD898458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69C5-CB1B-4F27-BCC6-92332896E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9E45-7B60-4EF9-AFEF-E167B4FDE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0E3C-2503-4C34-8C22-01530F74D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C9C4-45D1-4B36-80BE-DF15E18E1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816E-5CD0-49C8-BD5F-7C0518B9E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what other representation  ( or mayb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0760-55F6-4CFF-A99F-CA02065D8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75A3-9CEB-4A1D-A40C-96C09F8B6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A398-D6A2-4B46-88AC-EB36123DA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B5EA-2394-4206-A40E-65883A989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869B-E493-4A0A-B0F8-B6430C05B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2EC1-AA9C-4C4F-8355-82F3414D3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31B8-BC30-4495-8B4D-0DEE6504F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1549-E5D2-42BE-BADF-BB504CCD5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F072-ABAF-4DD8-9CF0-EF5BDFDC2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A16B-183B-4F3A-8767-DC97F546E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4526-DAC9-4ED4-A191-20E6B836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F2B-A821-494D-9345-3A9D7CDC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FD2-5C4C-4C89-81C9-E17FA9DD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05F-0A28-4EF3-BF67-B2ADBA6D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A8C7-1B0F-4E47-8E60-4D097325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221B-A873-404E-8EFF-006D6E0F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4A97-5A49-4188-B4D7-E375F818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A829-518E-4EAD-B0CB-1DC85627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E1E9-8861-4978-849F-E1E2C18C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37A9-8ADB-41AE-9B4D-C271EC2D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7D47-CCFF-40FE-A2DE-80CACF0F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ABB7-8FCD-437C-9E9E-42AA445C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CDE7-6F7C-4027-92B7-85BBF1A2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2539-3AC7-42CB-98F3-613775F5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CA2F-2F9A-4C1A-BDF4-124AC5B1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DC87-88F2-4FFF-BD92-36097320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87D2-7513-41BF-A66D-503C9620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136-072F-457F-A795-527ACA18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CD0-2F4F-4C4A-983B-53D9843D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4D2D-7E2E-4503-86CD-756C0447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14E1-58FE-482D-A27F-06E91967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CBB-E5B4-45C7-BD7B-1239148E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719F-05A4-4220-809B-F83990FC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764-79F3-4141-B2B3-D721EFDD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0694-F2AC-493F-83D1-183DF68E307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F75B-C4E2-418C-97E7-197111F541B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ould the student be able to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respon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the 10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of a linear pattern is relatively small, then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FB6E-CB1D-45B7-8C8F-BE1CBA39011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eacher strug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experience is that setting lesson goals beyond reciting an expectation or simply using a topic name is a struggle for teac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0E1A-39F0-4E94-B69A-9972827D8DD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90720" y="21337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ead of reciting this curriculum expectation as a goal: solve problems involving percents expressed to .. whole-number percents greater than 100%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E655-9DD0-487C-A13C-446C2AD93C8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90720" y="2209680"/>
            <a:ext cx="74167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one number is less than 100% of another, the second number is more than 100% of the first. 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2F78-4AC9-4F96-BFF4-74F7DF65DAB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228600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a percent is greater than 100%, its decimal equivalent is greater than 1.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631C-DF99-4152-9EFF-BE51A2B0F76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17440" y="190512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ame strategies are used to solve problems involving percents greater than 100% as problems involving percents less than 100%. O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CF2E-3557-4DCB-AA34-FFA51304F9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you want to do thi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decide on the goal, you are more likely to know what questions to ask, what activity to use,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96B2-CCFB-4969-B180-2A900592764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ke it y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 if you get a lesson from a valued resource, you have to make your OWN decision about what to pull out of that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6A18-EB76-4A92-B28B-19BE58E0AE7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look at this lesson from Grade 7 TI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76C7-168B-44CF-8CE5-16056312D36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8615-68D9-469D-BD03-BEE85424B2E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Picture 1.pn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’s important about the Math we Teach?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 Focus on 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4495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an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ww.onetwoinfinity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AABA-FAD6-4170-82AB-A3F81433C00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Picture 2.png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2918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2057400" y="3733920"/>
            <a:ext cx="5943600" cy="30456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A02B-F839-4F99-AB4F-21054594BD5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Picture 3.png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4438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4419720" y="1905120"/>
            <a:ext cx="434340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648320" y="2666880"/>
            <a:ext cx="342900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6324480" y="2895480"/>
            <a:ext cx="28195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209680" y="3124080"/>
            <a:ext cx="35053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2BF8-8345-47F1-8ED5-08DA519F97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Picture 4.png"/>
          <p:cNvPicPr/>
          <p:nvPr/>
        </p:nvPicPr>
        <p:blipFill>
          <a:blip r:embed="rId1"/>
          <a:stretch/>
        </p:blipFill>
        <p:spPr>
          <a:xfrm>
            <a:off x="0" y="1415880"/>
            <a:ext cx="9144000" cy="40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9F43-594D-4F6F-A39A-A58E2FB96F4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Picture 5.png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BB48-DCDB-4E53-8A7A-4205CFED3A6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Picture 6.png"/>
          <p:cNvPicPr/>
          <p:nvPr/>
        </p:nvPicPr>
        <p:blipFill>
          <a:blip r:embed="rId1"/>
          <a:stretch/>
        </p:blipFill>
        <p:spPr>
          <a:xfrm>
            <a:off x="0" y="1906560"/>
            <a:ext cx="9144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190512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th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ay someone figures out terms 3, 4, 5, and 6 might be very different from the way that person figures out term 100 becaus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274C-40A3-4ACB-BC48-9A153F9A5DC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219320" y="19051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ndy Charles: A Big Idea is a statement of an idea that is central to the learning of mathematic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B734-0D96-46B0-BC99-8AAB294F70B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2193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rian Small: one that links numerous mathematical understandings into a coherent who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5E6D-7A2A-4338-AB98-E2AAE87C2AA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19320" y="19051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not a topic name nor is it an overall expectation. It is a statement (sentence) that a student could walk away with that makes a fundamental mathematical connec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3B0B-23EE-40E4-9705-B973704142A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reasoning is a process of describing and analyzing (e.g. predicting) generalized mathematical relationships and change using words and symbo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487A-C985-49FB-ABCB-84F8B6E0BBD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42920" y="2014560"/>
            <a:ext cx="74167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hird term in a linear growing pattern is negat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term is 2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ight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13C1-C08B-4618-97E5-0C8D2120FEA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no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possible that it may, on first blush, sound like a definition, but it’s not. It provides a new lens in which to embed the learn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4F7C-063D-478C-A52F-4EFE0AD835B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132000" y="1052640"/>
            <a:ext cx="5554800" cy="5562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0" y="1614600"/>
            <a:ext cx="5029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9900"/>
                </a:solidFill>
                <a:latin typeface="Arial"/>
              </a:rPr>
              <a:t>Repres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cc0000"/>
                </a:solidFill>
                <a:latin typeface="Arial"/>
              </a:rPr>
              <a:t>Refl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ff"/>
                </a:solidFill>
                <a:latin typeface="Arial"/>
              </a:rPr>
              <a:t>Reasoning and P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cc00"/>
                </a:solidFill>
                <a:latin typeface="Arial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8080"/>
                </a:solidFill>
                <a:latin typeface="Arial"/>
              </a:rPr>
              <a:t>Selecting Tools and Computation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4"/>
          <p:cNvSpPr txBox="1"/>
          <p:nvPr/>
        </p:nvSpPr>
        <p:spPr>
          <a:xfrm rot="18202800">
            <a:off x="3752640" y="339372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2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4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-57240" y="1965240"/>
            <a:ext cx="3810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10"/>
          <p:cNvSpPr txBox="1"/>
          <p:nvPr/>
        </p:nvSpPr>
        <p:spPr>
          <a:xfrm rot="19346400">
            <a:off x="5314680" y="3166560"/>
            <a:ext cx="895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8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526E-006 L 0.30642 0.22196 E">
                                      <p:cBhvr>
                                        <p:cTn id="333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5723E-006 L 0.67431 -0.04 E">
                                      <p:cBhvr>
                                        <p:cTn id="335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16185E-006 L 0.37552 -0.17989 E">
                                      <p:cBhvr>
                                        <p:cTn id="337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56647E-006 L 0.37621 0.07976 E">
                                      <p:cBhvr>
                                        <p:cTn id="339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31214E-006 L 0.49705 -0.20879 E">
                                      <p:cBhvr>
                                        <p:cTn id="341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9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1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3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3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3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3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3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3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3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3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91329E-006 L 0.45347 0.15977 E">
                                      <p:cBhvr>
                                        <p:cTn id="413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50867E-006 L 0.61268 0.34174 E">
                                      <p:cBhvr>
                                        <p:cTn id="426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3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3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tice th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219320" y="190512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ice the embedded processes- communication, reasoning, conne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7FA7-D066-4A73-A0D5-256303239F1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609480" y="4343400"/>
            <a:ext cx="2144880" cy="2147760"/>
          </a:xfrm>
          <a:prstGeom prst="rect">
            <a:avLst/>
          </a:prstGeom>
          <a:ln w="0">
            <a:noFill/>
          </a:ln>
        </p:spPr>
      </p:pic>
      <p:sp>
        <p:nvSpPr>
          <p:cNvPr id="194" name="WordArt 10"/>
          <p:cNvSpPr txBox="1"/>
          <p:nvPr/>
        </p:nvSpPr>
        <p:spPr>
          <a:xfrm rot="19346400">
            <a:off x="1225440" y="504000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WordArt 8" descr=""/>
          <p:cNvPicPr/>
          <p:nvPr/>
        </p:nvPicPr>
        <p:blipFill>
          <a:blip r:embed="rId2"/>
          <a:stretch/>
        </p:blipFill>
        <p:spPr>
          <a:xfrm>
            <a:off x="755640" y="5479920"/>
            <a:ext cx="1085760" cy="433440"/>
          </a:xfrm>
          <a:prstGeom prst="rect">
            <a:avLst/>
          </a:prstGeom>
          <a:ln w="0">
            <a:noFill/>
          </a:ln>
        </p:spPr>
      </p:pic>
      <p:sp>
        <p:nvSpPr>
          <p:cNvPr id="196" name="WordArt 6"/>
          <p:cNvSpPr txBox="1"/>
          <p:nvPr/>
        </p:nvSpPr>
        <p:spPr>
          <a:xfrm rot="20286600">
            <a:off x="1002960" y="448596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57200" y="1905120"/>
            <a:ext cx="86868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 representations of relationships (e.g. numeric, graphic, geometric, algebraic) highlight different characteristics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haviours, and can serve different purpos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E721-2D82-4CBF-B5B3-1ECBAA1E577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ich proces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457200" y="1905120"/>
            <a:ext cx="86868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processes do you see embedded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135F-FD23-4332-88DF-2259B8FA69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4876920" y="2895480"/>
            <a:ext cx="3057480" cy="30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ing mathematical relationships helps us see that there are classes of relationships and provides insight into each member of the cla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C26F-BE67-4A1C-BAC6-816465D1F50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219320" y="19051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ed information about a mathematical relationship can sometimes, but not always, allow us to predict other information about that relationshi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5209-8500-43C9-B058-C17D4BE5199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143000" y="26668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sets of questions will be circulated which are designed to bring out the big ide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3CE2-EC65-45BD-BCDB-4A890BC66F2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43000" y="26668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one of those sets of questions. Match each question to the big idea it is most likely to elic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455E-F05E-40AD-A3D1-F4F27C0F68F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143000" y="2666880"/>
            <a:ext cx="74167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big idea did you find easiest to match first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did you find hardest to match fir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9047-D0F4-423B-93CA-3BFD702943C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42920" y="2014560"/>
            <a:ext cx="74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4DDD-5ACA-4161-B4C9-AC609BDCAAD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19320" y="2362320"/>
          <a:ext cx="7391160" cy="2743200"/>
        </p:xfrm>
        <a:graphic>
          <a:graphicData uri="http://schemas.openxmlformats.org/drawingml/2006/table">
            <a:tbl>
              <a:tblPr/>
              <a:tblGrid>
                <a:gridCol w="1825560"/>
                <a:gridCol w="865080"/>
                <a:gridCol w="593640"/>
                <a:gridCol w="822600"/>
                <a:gridCol w="820440"/>
                <a:gridCol w="820800"/>
                <a:gridCol w="822600"/>
                <a:gridCol w="820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143000" y="266688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of the questions did you like best?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1C62-6019-4CD0-8558-8AAB4CA4E05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143000" y="266688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1 show the notion of generaliz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7983-D613-4BBB-9B40-2CB7E1EA678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143000" y="26668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1 show the notion of describing or analyzing relationships or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1A96-C9DE-43C8-80D1-1C421CCB557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143000" y="266688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s that matched Big Idea 2 broaden a student’s sense of what different representations mean and/or what their purpose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9A79-3594-4DED-AF9E-1A61018879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143000" y="26668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 that matched Big Idea 3 broaden a student’s notion of what a “class” of relationships might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27D4-DD51-45B3-82FE-39BBC1FF2F6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143000" y="266688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n you think of other examples that you’ve used (with or without realizing it) to make students see that from limited information you can get m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7E10-D8E0-4EE2-A330-C9F201DB0B7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 just experience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066680" y="1828800"/>
            <a:ext cx="741708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arallel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ill talk more about these, but these two very related tasks were adjusted to meet your needs but treated together in our consolid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FC70-370F-4510-8227-BBFBC9E79D3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us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066680" y="18288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build connections students need in order to learn both through grades and within gr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prioritize instruction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3627-0DD0-4E66-AAFD-9BC6D251048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us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066680" y="182880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helps for students to know them so that the connections they are making are more explicit and to build on prior knowled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6385-3D53-48C3-9A3A-08D4EE19B85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uilding less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066680" y="182880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can use a big idea to hone in on an appropriate lesson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51F5-4409-4BB4-A794-42D1AF7C848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042920" y="201456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be either positive or negative? Why is t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66CB-247B-45BD-83B0-3B1E3F00346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066680" y="18288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 the expectation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e first degree equations with non-fractional coefficients using a variety of tools (e.g. 2x + 7 = 6x –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2603-9E7B-4F17-B61A-9C307351F25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my less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066680" y="182880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m going to propose that it is not that “students will use a balance to solve a linear equation”, b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0090-4E39-4399-A2F4-9ED751D35BA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my less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066680" y="182880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ybe: recognizing that solving an equation means determining an equivalent equation where the unknown value is more obviou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F718-C7D8-46BE-ACD1-F20688AACAE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066680" y="182880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0306-8C5F-425F-B93F-39C470C5A7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080" y="4114800"/>
            <a:ext cx="7417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361D-4591-4B4B-AD8A-E8508ADA02E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523880" y="18097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 it’s sure easier to see the unknown value in one of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066680" y="25909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need to ask a question or two that gets RIGHT to my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1A6C-AE53-4717-B0E7-306AAE7D337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066680" y="259092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ree or disagree: The equation 5x – 4 =  17 + 3x is really the equation x = 11.5 in disgu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2EC9-A7BC-47C3-A95B-8A0ADB48D35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066680" y="259092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equation would you find easier to solve? 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x – 4 =  17 + 3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11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EF84-3CA0-47A4-8A0B-4E1100D534A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066680" y="259092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might someone say that solving an equation is about finding what easier equation is being disgui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7808-ECB8-4F5C-B459-E6B02341003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066680" y="198108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urriculum expectation reads: construct tables of values and graphs using a variety of tools to represent linear relations derived from descriptions of realistic situ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47BD-D1EA-4EEA-8B7F-351B847C25B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289548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es this minds-on engage stud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is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C196-A387-4783-984B-BAA65E7FD20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y goal today might 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066680" y="19810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useful to write the table of values where the independent variable increases in a consistent way, but you don’t have 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9EA2-570F-48F1-B925-ECE6E619FFC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 I could ask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066680" y="19810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e are two tables of values. You want to find out if they represent linear relationships. Which table makes it easier to te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3244-AC1F-455B-8ACE-F1B25363780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AAD4-0BAE-41A6-BE4B-7298DDAAD12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447920" y="91440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257800" y="83808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066680" y="19810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use the other table too, if you want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6480-8264-4392-9CE8-7C3230BBED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r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066680" y="19810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goal could have been, instead, to ask students to consider how a graphical representation of that same relationship gives other insights into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2552-3A4C-4463-A766-82CDD8032C9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6EEA-48DA-4A78-9210-4DE7C7407C7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066680" y="198108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/pair/sha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the difference between an expectation and a big idea?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so big about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Important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066680" y="198108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ould like to introduce you to Margaret Wise Brown’s The Important 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1A01-3F04-438F-9F1A-C805D8F170E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 Samp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7921-412A-46C6-BFE6-3BC5A7D9F04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Picture 1.png"/>
          <p:cNvPicPr/>
          <p:nvPr/>
        </p:nvPicPr>
        <p:blipFill>
          <a:blip r:embed="rId1"/>
          <a:stretch/>
        </p:blipFill>
        <p:spPr>
          <a:xfrm>
            <a:off x="1415880" y="190440"/>
            <a:ext cx="6312240" cy="647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w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CD61-5FD3-4C1C-AE49-C76B48E308A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066680" y="198108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this book throughout the week as a way for you to consolidate what you explore in our CAMPP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as the important underlying id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22D1-F7E5-4D8C-9C9E-BDA73DA82F7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uld OR how would this question force students to deal with that underlying id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C019-E155-4D25-965E-7B9FB4B4CC2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ould the student be able to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respon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289548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kes a pattern linea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re are a lot of linear patterns that include the same term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3D32-FBEF-4120-BC06-2485F0D4452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0:47:12Z</dcterms:created>
  <dc:creator>PSteele</dc:creator>
  <dc:description/>
  <dc:language>en-US</dc:language>
  <cp:lastModifiedBy>Rod_Anne_Yeager</cp:lastModifiedBy>
  <dcterms:modified xsi:type="dcterms:W3CDTF">2009-07-17T13:40:14Z</dcterms:modified>
  <cp:revision>104</cp:revision>
  <dc:subject/>
  <dc:title>Slide 1</dc:title>
</cp:coreProperties>
</file>